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064-807D-4171-A7B2-E1975410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823-59A6-483B-BC07-CE27A5E8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F2E-6215-4913-88C0-2F79578A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53E-D057-4E05-8193-571DE075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85900-605B-4C5A-81E6-8326A745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7B0AA-FBCC-45FD-96F0-B4C0987D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1FBE4-D597-44C6-9A8F-EDD1B0A5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7C8FD-85FE-44C8-9C7F-61D3BCC8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CE8A1-0A2F-49B4-8B26-23FC4E66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0B579-E34C-4CD1-9969-52087440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5981C-50DE-4583-BB55-3452C33E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486-8E9F-4813-82FB-C44877C3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B191F-D152-4881-B668-A09CE0AD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E1778-D901-4090-A503-BA028F38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FF962-BA75-41F2-95D4-0DB1EC4B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D7206-437F-417C-A61D-C4E94667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2522C-358D-42C1-97DA-EEA12280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C7A-AD4F-44E7-86FD-BBEC7883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32F-7EAD-4FC6-B58E-A7B68001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4C3-8EAA-4B34-A73C-39891015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15B-1C64-40B0-819A-1EB238F3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C82-08BD-43D9-B663-5534EEA0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221-1CE0-4AC9-9C81-D9C68A65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313-27A6-47D8-9592-90406D05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581A-5293-44C9-8BBA-B413C350AD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9A15-8510-4318-9421-F02B897217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3188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James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pters 1-2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8-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7F080-ECB6-4373-AB40-16858058B3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sic Outlin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eal With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ing God First While We Are T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ing Wealth In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ing God’s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are of Favori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ting Your Faith And Works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DE9-9395-4BE7-B76E-5838944395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Deal With Trial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 it joy when you are t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in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 to God for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aith in your own pr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51D-508B-46A5-AFAC-13E2B1DB97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eeping Wealth In Persp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let the poor become discouraged over their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wise, do not let the rich become obsessed with their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all pass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33F-7951-402D-972F-50C25621C4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eeping God First While We Are Test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is the man who endures temp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does not tempt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own desires draw us away from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e leads to sin, which leads to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good gift is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od’s will we were made Chris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D5F-A610-4437-95FB-B6E9BE7A33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lying God’s Wo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 aside all filthiness and wicked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 the Word with mee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ing the word and not doing it, is like ignoring your face in the mi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think you are religious, you are most likely not, unl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bridle your tongu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 the fatherless and widows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yourself unspotted from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D0E-B833-4BC5-9BC0-25322CBFF1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eware of Favorit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judge people by their outward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reat people differently because of their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ity is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in = guilty of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mercy in order to receive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388-5A03-451E-AFA2-E3D616A704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utting Your Faith and Works Togeth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the teaching you have rece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just talk about it…Do it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 without works is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e demons believ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n proves his faith by his works            (Abraham, Raha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B3C-1E0F-470E-8F78-C99D215FF7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00:11:58Z</dcterms:created>
  <dc:creator>Jarrod S. Vines</dc:creator>
  <dc:description/>
  <dc:language>en-US</dc:language>
  <cp:lastModifiedBy>Frank D Vines</cp:lastModifiedBy>
  <dcterms:modified xsi:type="dcterms:W3CDTF">2007-07-19T03:46:18Z</dcterms:modified>
  <cp:revision>11</cp:revision>
  <dc:subject/>
  <dc:title>James Chapters 1-2</dc:title>
</cp:coreProperties>
</file>